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92DE-31F2-4AC5-BF98-4273F7F1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25E1-03E3-4CDF-B858-F5559FC1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6849-3BEE-47D7-BB64-8C27CD50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2B2-5902-4D6D-AADC-03223792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8693-F2F6-42FF-BC6C-0DF0E49B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6928-8C3B-4968-B6B0-0A03CE99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127C8-7AC3-475E-AB67-F9E17E18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EFA2-7F38-4261-AE27-0DD52FD9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B18A-FB07-40FD-AB75-13841008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47DE-B9AB-4783-A30F-5CF41DDA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5123-B320-4C94-ADCF-9B3AE3EF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1D34-AAE6-4F67-BAE7-474A5DC1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5545-EF46-466F-930F-CFA519A4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0F24-AC9D-4EFD-B424-182AB9C0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5C08-3F1F-4617-9985-4186CE95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9ABA-A6C7-4855-90EF-FF5F9274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6D11-1081-45CE-AB25-309601514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B243-15C0-4B0E-8262-1486FD4C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378E-CA0E-4799-B52E-5ED18B29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BC76-0F8E-4E78-88F4-1A1B27D1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B198-8C30-4E56-840C-B73C490D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4BC1-C607-4C70-A025-62B761D0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2C96-0D2F-4840-A94E-0FF751E3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15AE-9F39-46FE-BA48-3BD8AC8D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E962-9623-4FFF-AF46-0654A1A10B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B6DF-2C5B-4281-9F28-30501502DE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657240" y="1600200"/>
            <a:ext cx="5334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GESTION DE RECURSOS HUMANO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447920" y="4648320"/>
            <a:ext cx="64008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fesor: Cristian Binime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artamento de Ingeniería Indust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914640" y="2955960"/>
            <a:ext cx="1314360" cy="799920"/>
            <a:chOff x="3914640" y="2955960"/>
            <a:chExt cx="1314360" cy="799920"/>
          </a:xfrm>
        </p:grpSpPr>
        <p:sp>
          <p:nvSpPr>
            <p:cNvPr id="165" name=""/>
            <p:cNvSpPr/>
            <p:nvPr/>
          </p:nvSpPr>
          <p:spPr>
            <a:xfrm>
              <a:off x="3914640" y="2955960"/>
              <a:ext cx="131436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14640" y="2955960"/>
              <a:ext cx="10065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0" lang="en-US" sz="43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0" lang="en-US" sz="1300" spc="-1" strike="noStrike">
                  <a:solidFill>
                    <a:srgbClr val="ffffff"/>
                  </a:solidFill>
                  <a:latin typeface="Verdana"/>
                </a:rPr>
                <a:t>           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047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304920" y="1143000"/>
            <a:ext cx="8533800" cy="5333760"/>
            <a:chOff x="304920" y="1143000"/>
            <a:chExt cx="8533800" cy="5333760"/>
          </a:xfrm>
        </p:grpSpPr>
        <p:sp>
          <p:nvSpPr>
            <p:cNvPr id="185" name=""/>
            <p:cNvSpPr/>
            <p:nvPr/>
          </p:nvSpPr>
          <p:spPr>
            <a:xfrm>
              <a:off x="7791120" y="1143000"/>
              <a:ext cx="104760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rganiz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ru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ndividu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1143000"/>
              <a:ext cx="112356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eográf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ercad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ecnológ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olít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Leg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28480" y="1143000"/>
              <a:ext cx="104760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Vis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is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bjetivo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Val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920" y="1143000"/>
              <a:ext cx="1123560" cy="738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Entor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28480" y="1143000"/>
              <a:ext cx="1047600" cy="738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Estrateg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97000" y="1143000"/>
              <a:ext cx="194544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rabajo en equip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omunicacion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onflic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Relac.Interperson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li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97000" y="1143000"/>
              <a:ext cx="1945440" cy="738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Procesos psicológico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y psicosoci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12680" y="1143000"/>
              <a:ext cx="108252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lan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iramid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atric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Puest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Tare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Proces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76440" y="1143000"/>
              <a:ext cx="108252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Selección</a:t>
              </a:r>
              <a:r>
                <a:rPr b="0" lang="es-CL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apacit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v. Desemp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lan Carre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v. Potenc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Desv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76440" y="1143000"/>
              <a:ext cx="2320200" cy="32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Diseñ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76440" y="1470600"/>
              <a:ext cx="1158480" cy="41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Sistem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35280" y="1470600"/>
              <a:ext cx="1161360" cy="41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Estructur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59320" y="1881360"/>
              <a:ext cx="189720" cy="3692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42800" y="1143000"/>
              <a:ext cx="104796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rganiz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ru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ndividu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42800" y="1143000"/>
              <a:ext cx="2095920" cy="32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Resultad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42800" y="1470600"/>
              <a:ext cx="1049760" cy="41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RR.H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92560" y="1470600"/>
              <a:ext cx="1046160" cy="41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Efect. Org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76560" y="5820480"/>
              <a:ext cx="2021400" cy="656280"/>
            </a:xfrm>
            <a:custGeom>
              <a:avLst/>
              <a:gdLst>
                <a:gd name="textAreaLeft" fmla="*/ 353520 w 2021400"/>
                <a:gd name="textAreaRight" fmla="*/ 1465560 w 2021400"/>
                <a:gd name="textAreaTop" fmla="*/ 87840 h 656280"/>
                <a:gd name="textAreaBottom" fmla="*/ 568440 h 65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22240" y="5820480"/>
              <a:ext cx="1871640" cy="656280"/>
            </a:xfrm>
            <a:custGeom>
              <a:avLst/>
              <a:gdLst>
                <a:gd name="textAreaLeft" fmla="*/ 327600 w 1871640"/>
                <a:gd name="textAreaRight" fmla="*/ 1357200 w 1871640"/>
                <a:gd name="textAreaTop" fmla="*/ 87840 h 656280"/>
                <a:gd name="textAreaBottom" fmla="*/ 568440 h 65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68040" y="5820480"/>
              <a:ext cx="2170080" cy="656280"/>
            </a:xfrm>
            <a:custGeom>
              <a:avLst/>
              <a:gdLst>
                <a:gd name="textAreaLeft" fmla="*/ 379800 w 2170080"/>
                <a:gd name="textAreaRight" fmla="*/ 1573560 w 2170080"/>
                <a:gd name="textAreaTop" fmla="*/ 87840 h 656280"/>
                <a:gd name="textAreaBottom" fmla="*/ 568440 h 65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4920" y="5820480"/>
              <a:ext cx="1871640" cy="656280"/>
            </a:xfrm>
            <a:custGeom>
              <a:avLst/>
              <a:gdLst>
                <a:gd name="textAreaLeft" fmla="*/ 327600 w 1871640"/>
                <a:gd name="textAreaRight" fmla="*/ 1357200 w 1871640"/>
                <a:gd name="textAreaTop" fmla="*/ 87840 h 656280"/>
                <a:gd name="textAreaBottom" fmla="*/ 568440 h 65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11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ODELO A.S.H. (S. QUIJANO/200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CASO CANAL 1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uáles son los estilos de gestión de RRHH que se identifican en el caso? ¿Cuáles son los elementos distintivos entre ell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elementos del caso responden a una nueva concepción estratégica de RRHH?, ¿Por qué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ómo se entienden los “focos de resistencia interna” y de qué manera pueden ser gestionados desde RRH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Unidad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 entorno cambiante y la gestió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ratégic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 Recursos Hum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Program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 final del curso los alumnos deben comprender la Gestión de Recursos Humanos como una actividad de agregación de valor a las empresas y organizaciones, disponiendo de las herramientas para diseñar, planificar y ejecutar políticas de gestión de personas y organiz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Program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90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pecífico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Conocer los principales enfoques de gestión de recursos</a:t>
            </a:r>
            <a:r>
              <a:rPr b="1" lang="es-ES_tradnl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human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Diferenciar funciones y procesos de la Gestión de Recursos Human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Analizar agregación de valor de la gestión de Recursos Human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Analizar el entorno de negocios y el rol central de la gestión de personas en la competitividad de la empresa del siglo XXI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 entorno cambiante y la gestión de Recursos Huma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cambios en el empleo y el desarrollo profe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gestión de RRHH del “mando y control” al desarrollo de la confianz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s Organizacionales y Gestión de Recursos Human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foque sistémico y la Gestión de Recursos Humano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organización como siste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provisión de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dirección de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evaluación de person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retribución de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desarrollo de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Gestión por competencias. Un nuevo enfoque para la Gestión de RRHH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 enfoque de compet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fini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mplica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Gestión de Recursos Humanos y la agregación de Val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nuevos roles de la Gestión de RRHH (estrategia/operación y procesos/person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stores de RRHH reinventarse o mor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enfoque de Gestión de Personas como agregación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desafíos de la agregación de val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Metodologí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a metodología del curso está centrada en el rol central del alumno como sujeto del aprendizaje. Mediante un conjunto de actividades y ejercicios los alumnos irán conociendo los contenidos del curso y aportarán desde sus experiencias y lecturas a la comprensión del rol de la Gestión de Recursos Humanos en la empresa del siglo XX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Evalu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l finalizar el curso los alumnos deberán entregar un ensayo (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áx.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10 páginas de extensión) que responda creativamente a la pregunta ¿Cómo agregar valor a las empresas desde la Gestión de Recursos Humanos?. Para lo anterior los alumnos deberán leer la bibliografía obligatoria del curso y los contenidos de cl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finir fecha de entrega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8:03:45Z</dcterms:created>
  <dc:creator>BertSR</dc:creator>
  <dc:description/>
  <dc:language>en-US</dc:language>
  <cp:lastModifiedBy>UNIVERSIDAD DE CHILE</cp:lastModifiedBy>
  <dcterms:modified xsi:type="dcterms:W3CDTF">2004-03-08T20:53:59Z</dcterms:modified>
  <cp:revision>40</cp:revision>
  <dc:subject/>
  <dc:title>Slide 1</dc:title>
</cp:coreProperties>
</file>